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3F9-DA61-4240-9FFC-CB8B111F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C41-D773-436A-B231-560098C7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7CE-5169-4651-8EC9-9AF08E0A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A11-F508-4776-B4A0-835CB06A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98B-CAED-4165-9E0F-A0B87EF5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806-2139-4BF9-B9FE-9B0FD40F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EF2-FF62-44CE-BF00-7276EBFF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82D-86C6-44B6-8C70-6531C511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7A0-CABA-427E-9AC4-86000BCF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F4D-12F9-4E9C-AFBF-B10F3080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54B-F1BA-42AC-A608-EB39A34B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229-B21A-4520-9B79-2FF75C26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FF50-9387-4FF7-91B7-8630497A5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80880" y="609480"/>
            <a:ext cx="266724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SECO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80880" y="236232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04920" y="426708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80880" y="60958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457200" y="7848720"/>
            <a:ext cx="259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MILY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2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6"/>
          <p:cNvSpPr/>
          <p:nvPr/>
        </p:nvSpPr>
        <p:spPr>
          <a:xfrm>
            <a:off x="168120" y="-647640"/>
            <a:ext cx="24768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0"/>
          <p:cNvSpPr/>
          <p:nvPr/>
        </p:nvSpPr>
        <p:spPr>
          <a:xfrm>
            <a:off x="168120" y="-754200"/>
            <a:ext cx="1571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34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6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8"/>
          <p:cNvSpPr/>
          <p:nvPr/>
        </p:nvSpPr>
        <p:spPr>
          <a:xfrm>
            <a:off x="168120" y="-700200"/>
            <a:ext cx="1143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0"/>
          <p:cNvSpPr/>
          <p:nvPr/>
        </p:nvSpPr>
        <p:spPr>
          <a:xfrm>
            <a:off x="168120" y="-700200"/>
            <a:ext cx="1143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4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80880" y="6094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52280" y="2363760"/>
            <a:ext cx="31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04920" y="426708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26960" y="60958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57200" y="7848720"/>
            <a:ext cx="259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AL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19:14:23Z</dcterms:created>
  <dc:creator>Hutto ISD</dc:creator>
  <dc:description/>
  <dc:language>en-US</dc:language>
  <cp:lastModifiedBy>lottun</cp:lastModifiedBy>
  <cp:lastPrinted>2010-09-16T02:03:23Z</cp:lastPrinted>
  <dcterms:modified xsi:type="dcterms:W3CDTF">2010-12-09T20:18:44Z</dcterms:modified>
  <cp:revision>31</cp:revision>
  <dc:subject/>
  <dc:title>No Slide Title</dc:title>
</cp:coreProperties>
</file>